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FF1-1F76-433D-9CB5-813E574C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55C-BCC7-4801-8E77-5ACD724C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FBF-4799-4CA3-9DC9-35A86D12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1CF-39C4-4F33-B724-2CCD5953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1B8-838A-48E8-93E2-761B43D3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17A-34E1-4646-8090-BE66F3D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994-1CDF-44FE-A957-383CA6B3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970-97FE-46BB-B0C5-F5327E6C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747-12BF-4236-B4CD-B615CB94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86B-3ABA-4175-9D11-B89A70E2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77E-C87B-4AAA-B002-50F3417E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7F1-D364-4501-9301-D8AF80C4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FE5B-31B0-4D78-8B05-B0302FDECD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undee Bowlers 2"/>
          <p:cNvPicPr/>
          <p:nvPr/>
        </p:nvPicPr>
        <p:blipFill>
          <a:blip r:embed="rId1"/>
          <a:stretch/>
        </p:blipFill>
        <p:spPr>
          <a:xfrm>
            <a:off x="6537240" y="26028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Dundee Ex Presidents"/>
          <p:cNvPicPr/>
          <p:nvPr/>
        </p:nvPicPr>
        <p:blipFill>
          <a:blip r:embed="rId2"/>
          <a:stretch/>
        </p:blipFill>
        <p:spPr>
          <a:xfrm>
            <a:off x="8193240" y="26028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YSIDE  TRANSPORT  WKS         WHITFIELD  PARK  PUBLIC             YORKSHIRE  IMP.  WORKS            DUNDEE  BOWLERS                    DUNDEE  BOWLERS                  DUNDE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72888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Dundee Bowlers 1"/>
          <p:cNvPicPr/>
          <p:nvPr/>
        </p:nvPicPr>
        <p:blipFill>
          <a:blip r:embed="rId3"/>
          <a:stretch/>
        </p:blipFill>
        <p:spPr>
          <a:xfrm>
            <a:off x="4952880" y="18900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Whitfield Park"/>
          <p:cNvPicPr/>
          <p:nvPr/>
        </p:nvPicPr>
        <p:blipFill>
          <a:blip r:embed="rId4"/>
          <a:stretch/>
        </p:blipFill>
        <p:spPr>
          <a:xfrm>
            <a:off x="1857240" y="189000"/>
            <a:ext cx="109692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Yorkshire Imperial"/>
          <p:cNvPicPr/>
          <p:nvPr/>
        </p:nvPicPr>
        <p:blipFill>
          <a:blip r:embed="rId5"/>
          <a:stretch/>
        </p:blipFill>
        <p:spPr>
          <a:xfrm>
            <a:off x="3513240" y="404640"/>
            <a:ext cx="111600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ayside Transport.jpg"/>
          <p:cNvPicPr/>
          <p:nvPr/>
        </p:nvPicPr>
        <p:blipFill>
          <a:blip r:embed="rId6"/>
          <a:stretch/>
        </p:blipFill>
        <p:spPr>
          <a:xfrm>
            <a:off x="344520" y="549360"/>
            <a:ext cx="860400" cy="86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7"/>
          <a:stretch/>
        </p:blipFill>
        <p:spPr>
          <a:xfrm>
            <a:off x="318960" y="1844640"/>
            <a:ext cx="1203480" cy="12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8"/>
          <a:stretch/>
        </p:blipFill>
        <p:spPr>
          <a:xfrm>
            <a:off x="1855800" y="1838160"/>
            <a:ext cx="1220760" cy="121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9"/>
          <a:stretch/>
        </p:blipFill>
        <p:spPr>
          <a:xfrm>
            <a:off x="3465360" y="1833480"/>
            <a:ext cx="1211400" cy="12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10"/>
          <a:stretch/>
        </p:blipFill>
        <p:spPr>
          <a:xfrm>
            <a:off x="4935600" y="1844640"/>
            <a:ext cx="1224000" cy="120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11"/>
          <a:stretch/>
        </p:blipFill>
        <p:spPr>
          <a:xfrm>
            <a:off x="6588000" y="1938240"/>
            <a:ext cx="104616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12"/>
          <a:stretch/>
        </p:blipFill>
        <p:spPr>
          <a:xfrm rot="11935800">
            <a:off x="8097480" y="1956960"/>
            <a:ext cx="987480" cy="908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6480" y="3133800"/>
            <a:ext cx="9504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DUNDEE &amp; DISTRICT BOWLERS 1922            CITY OF DUNDEE BOWLERS 1930                  CITY OF DUNDEE BOWLERS 1932           CITY OF DUNDEE BOWLERS 1948                       DUNDEE PRINTERS B.C                      DUNDEE EX PRESIDENTS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3"/>
          <a:stretch/>
        </p:blipFill>
        <p:spPr>
          <a:xfrm>
            <a:off x="458640" y="3556080"/>
            <a:ext cx="993960" cy="101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14"/>
          <a:stretch/>
        </p:blipFill>
        <p:spPr>
          <a:xfrm>
            <a:off x="2049480" y="3632040"/>
            <a:ext cx="833400" cy="8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15"/>
          <a:stretch/>
        </p:blipFill>
        <p:spPr>
          <a:xfrm>
            <a:off x="3795840" y="3565440"/>
            <a:ext cx="744480" cy="99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16"/>
          <a:stretch/>
        </p:blipFill>
        <p:spPr>
          <a:xfrm>
            <a:off x="5024520" y="3639960"/>
            <a:ext cx="836640" cy="83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17"/>
          <a:stretch/>
        </p:blipFill>
        <p:spPr>
          <a:xfrm>
            <a:off x="6345360" y="3714840"/>
            <a:ext cx="966600" cy="69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18"/>
          <a:stretch/>
        </p:blipFill>
        <p:spPr>
          <a:xfrm>
            <a:off x="7832880" y="3586320"/>
            <a:ext cx="1011240" cy="946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5"/>
          <p:cNvSpPr/>
          <p:nvPr/>
        </p:nvSpPr>
        <p:spPr>
          <a:xfrm>
            <a:off x="128520" y="4653000"/>
            <a:ext cx="921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TAYSIDE B.L                                                  TAYSIDE B.L 50</a:t>
            </a:r>
            <a:r>
              <a:rPr b="0" lang="en-GB" sz="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DUNDEE B.A                                    CITY OF DUNDEE                      DUNDEE BLINDCRAFT BOWLERS  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               SOUTH AFRICAN BAD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9:35:05Z</dcterms:created>
  <dc:creator>JY</dc:creator>
  <dc:description/>
  <dc:language>en-US</dc:language>
  <cp:lastModifiedBy>Cooper</cp:lastModifiedBy>
  <dcterms:modified xsi:type="dcterms:W3CDTF">2015-05-12T16:03:17Z</dcterms:modified>
  <cp:revision>11</cp:revision>
  <dc:subject/>
  <dc:title>Slide 1</dc:title>
</cp:coreProperties>
</file>